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6.jpeg" ContentType="image/jpeg"/>
  <Override PartName="/ppt/media/image10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17.wmf" ContentType="image/x-wmf"/>
  <Override PartName="/ppt/media/image9.png" ContentType="image/png"/>
  <Override PartName="/ppt/media/image26.png" ContentType="image/png"/>
  <Override PartName="/ppt/media/image3.png" ContentType="image/png"/>
  <Override PartName="/ppt/media/image11.wmf" ContentType="image/x-wmf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png" ContentType="image/pn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50AC9-FD18-492D-90B6-ADDF94EEE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1A037D-C2D9-4EAA-8D35-80BA6418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2E5A94-AC31-4E23-84D7-4B5D1A83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E4689-571D-45A4-8C9B-D8C1B06C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3A16A-5155-4A01-874C-66A8408C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93F7B-44F1-4F96-A3D1-EEEEF05C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DF9AEF-7DD2-4173-948D-4222E7DC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7B2AE9-FCE7-4724-8F1F-37B7191F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ABD811-3B65-4EAB-A269-F80748255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66046-343E-4706-8212-2451924B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9A16B6-FEDE-4D83-B8FA-E2D0DDC98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356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8440" y="194148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356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8440" y="4090320"/>
            <a:ext cx="26424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B442B-9752-4995-82D8-2E16DB034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280"/>
            <a:ext cx="86360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200" y="409032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200" y="1941480"/>
            <a:ext cx="400500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0320"/>
            <a:ext cx="8207280" cy="196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280"/>
            <a:ext cx="863604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72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32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200" spc="-1" strike="noStrike">
                <a:solidFill>
                  <a:srgbClr val="cc99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A417E82-3D8F-4994-B572-C6BCCA6FA8E7}" type="slidenum">
              <a:rPr b="0" lang="en-US" sz="1200" spc="-1" strike="noStrike">
                <a:solidFill>
                  <a:srgbClr val="cc99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46160" y="6357960"/>
            <a:ext cx="19047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16128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3"/>
          </p:nvPr>
        </p:nvSpPr>
        <p:spPr>
          <a:xfrm>
            <a:off x="3358800" y="634356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6019560" y="634356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125280" y="6357960"/>
            <a:ext cx="19036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6AABFEC-384C-4E50-AFD3-EDB02B10A00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2160360" y="5056200"/>
            <a:ext cx="6189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67320" bIns="46080" anchor="t">
            <a:noAutofit/>
          </a:bodyPr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Item IV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Zoran Bohaček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18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 VI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hr-HR" sz="2400" spc="-1" strike="noStrike">
                <a:solidFill>
                  <a:srgbClr val="ffcc00"/>
                </a:solidFill>
                <a:latin typeface="Arial"/>
              </a:rPr>
              <a:t>2009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82720" y="1341360"/>
            <a:ext cx="7378560" cy="1538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-324360" y="3239640"/>
            <a:ext cx="62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9720" bIns="4680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Croatia</a:t>
            </a:r>
            <a:endParaRPr b="0" lang="en-US" sz="60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P&amp;L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380360" y="395280"/>
            <a:ext cx="1511280" cy="1260360"/>
          </a:xfrm>
          <a:prstGeom prst="wedgeEllipseCallout">
            <a:avLst>
              <a:gd name="adj1" fmla="val -14532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5800" y="1866960"/>
            <a:ext cx="8223480" cy="46130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0000" y="190080"/>
            <a:ext cx="863748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fficiency, ROA,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RO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0" y="1008000"/>
            <a:ext cx="1619280" cy="1260360"/>
          </a:xfrm>
          <a:prstGeom prst="wedgeEllipseCallout">
            <a:avLst>
              <a:gd name="adj1" fmla="val -32449"/>
              <a:gd name="adj2" fmla="val 64962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35080" y="2519280"/>
            <a:ext cx="4444920" cy="27194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80000" y="2411280"/>
            <a:ext cx="4956120" cy="3168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o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502000" y="0"/>
            <a:ext cx="577836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82520" y="3884760"/>
            <a:ext cx="863748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tock &amp;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oney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arke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0360" y="1979640"/>
            <a:ext cx="1619280" cy="1260360"/>
          </a:xfrm>
          <a:prstGeom prst="wedgeEllipseCallout">
            <a:avLst>
              <a:gd name="adj1" fmla="val 96143"/>
              <a:gd name="adj2" fmla="val 10415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Central Bank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360" y="2160720"/>
            <a:ext cx="820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nd 2008 – relaxed some constraints to increase liquidity – targeted to public sect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arly 2009 – increased regulatory burde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ntrolled exchange rate and liquidit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lared that exchange rate stability is priority, opening pressures on interest rat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Measures – Governmen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31640" y="1440000"/>
            <a:ext cx="8388360" cy="53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alls on government since October 2008 to make decisive mo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nnounced 10 “Anti-Recession Measure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balanced the budget – March 2009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oo little too late – (local elections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untry rating slightly decreas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ssued 750 mil € bonds in Ma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182000" y="5759280"/>
            <a:ext cx="1817640" cy="971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280" y="2160360"/>
            <a:ext cx="820908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nlike some other countries – banks helped government – 2,8 bln €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o squeezing out of private sector (still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easonable credit activit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ising interest rat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isks lie in real secto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roatian Banking Associ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8680" y="208548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remely ac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xtensive media coverag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st questions to banks ended up with 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oordinating respons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ublished analyses, outlook, viewpoin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684360" indent="-68292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1254240"/>
                <a:tab algn="l" pos="2168640"/>
                <a:tab algn="l" pos="3083040"/>
                <a:tab algn="l" pos="3997440"/>
                <a:tab algn="l" pos="4911840"/>
                <a:tab algn="l" pos="5826240"/>
                <a:tab algn="l" pos="6740640"/>
                <a:tab algn="l" pos="7655040"/>
                <a:tab algn="l" pos="8569440"/>
                <a:tab algn="l" pos="9483840"/>
                <a:tab algn="l" pos="1039824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 far, maintained positive rol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BA in Media (from January 1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8680" y="1941120"/>
            <a:ext cx="8208720" cy="4025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ore presence in newspapers, TV and radio, web portals than entire 200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ewspapers 281 - “value” close to €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V 87 presences - “value” close to €2,500K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adio 76, additional web portals 3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edia classification – 99% “neutral”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7160" y="764640"/>
            <a:ext cx="8637480" cy="67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GDP Growth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35640" y="5157720"/>
            <a:ext cx="356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a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verage rate, 199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 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200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Sources: Eurostat,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5157720"/>
            <a:ext cx="396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data until 2006 are harmonised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ith final annual calculation of the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GD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: CB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2611440"/>
            <a:ext cx="4038480" cy="2506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648320" y="2610000"/>
            <a:ext cx="4038480" cy="250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3419640" y="5040360"/>
            <a:ext cx="1960560" cy="17384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flation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419640" y="179280"/>
            <a:ext cx="2160360" cy="23115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at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716360" y="1844640"/>
            <a:ext cx="395928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eer count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5157720"/>
            <a:ext cx="396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CPI inflation (1996-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1998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 RPI inflation) and core inflation, 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457200" y="2575080"/>
            <a:ext cx="4038480" cy="25794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4648320" y="2617920"/>
            <a:ext cx="4038480" cy="2493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16360" y="5157720"/>
            <a:ext cx="396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end of period, year-on-year rate of chang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flation in Croatia and Turkey is measured by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nsumer price index, and in the other selected countries by harmonized index of consumer prices</a:t>
            </a:r>
            <a:r>
              <a:rPr b="0" lang="hr-HR" sz="1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s: CBS, Eurostat and central banks' web si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Intl Reserves and Deposit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80360" y="287280"/>
            <a:ext cx="1511280" cy="1511280"/>
          </a:xfrm>
          <a:prstGeom prst="wedgeEllipseCallout">
            <a:avLst>
              <a:gd name="adj1" fmla="val -40550"/>
              <a:gd name="adj2" fmla="val 62254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319640" y="1979640"/>
            <a:ext cx="4319640" cy="3419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39640" y="1827360"/>
            <a:ext cx="3159360" cy="4113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01680" y="1814400"/>
            <a:ext cx="8339040" cy="3584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urrent Account and Foreign Deb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508720" y="1979640"/>
            <a:ext cx="1511280" cy="1260360"/>
          </a:xfrm>
          <a:prstGeom prst="wedgeEllipseCallout">
            <a:avLst>
              <a:gd name="adj1" fmla="val -31199"/>
              <a:gd name="adj2" fmla="val 64962"/>
            </a:avLst>
          </a:prstGeom>
          <a:solidFill>
            <a:srgbClr val="b3b3b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79280" y="1611360"/>
            <a:ext cx="4934160" cy="5168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256360" y="3749760"/>
            <a:ext cx="3744720" cy="23716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Assets – Exchange Rat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160720"/>
            <a:ext cx="5164200" cy="3240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580000" y="1673280"/>
            <a:ext cx="3195720" cy="4086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nks' Loan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6320" y="1800360"/>
            <a:ext cx="6043320" cy="1800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9640" y="3780000"/>
            <a:ext cx="249084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504720" y="5222880"/>
            <a:ext cx="2554560" cy="1436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3240000" y="4859280"/>
            <a:ext cx="5751720" cy="1300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480000" y="3060720"/>
            <a:ext cx="2340000" cy="15476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7160" y="718920"/>
            <a:ext cx="8637480" cy="765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apital Adequac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1628640"/>
            <a:ext cx="5940360" cy="45972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7819" dir="13500000" blurRad="0" rotWithShape="0">
              <a:srgbClr val="4c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ulatory capital</a:t>
            </a:r>
            <a:r>
              <a:rPr b="0" lang="hr-HR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tal exposure to risk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72360" y="720720"/>
            <a:ext cx="1871640" cy="1763640"/>
          </a:xfrm>
          <a:prstGeom prst="wedgeEllipseCallout">
            <a:avLst>
              <a:gd name="adj1" fmla="val -2124"/>
              <a:gd name="adj2" fmla="val 32125"/>
            </a:avLst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120" bIns="4500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VER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Times New Roman"/>
              </a:rPr>
              <a:t>NEW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332000" y="2217600"/>
            <a:ext cx="6192720" cy="39085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11:39:33Z</dcterms:created>
  <dc:creator>Zoran Bohaček</dc:creator>
  <dc:description/>
  <dc:language>en-US</dc:language>
  <cp:lastModifiedBy>Zoran Bohacek</cp:lastModifiedBy>
  <cp:lastPrinted>2009-06-16T13:41:08Z</cp:lastPrinted>
  <dcterms:modified xsi:type="dcterms:W3CDTF">2009-06-16T13:55:16Z</dcterms:modified>
  <cp:revision>70</cp:revision>
  <dc:subject/>
  <dc:title>KREDITNI REGISTAR KAO INSTITUCIJA RAZVIJENOG FINANCIJSKOG TRŽIŠ</dc:title>
</cp:coreProperties>
</file>